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221E-5E17-4B9A-A9D6-D04129C6C37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Роль права в жизни человека, общества, государства § 2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еня не важно, на чьей стороне сила: важно то, на чьей сторон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Гю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Роль права в жизни человека, общества, государства § 2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меня не важно, на чьей стороне сила: важно то, на чьей сторон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Гю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 - ?  Уч-к стр. 1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совокупность норм права данно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взаимосвязанных правовых норм, регулирующих однородные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гражданское право, семейное право, трудовое право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трас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родственных институтов какой-либо 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избирательное право в конституционном пра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в трудовом праве институт рабочего времени, заработной плат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 - ?  Уч-к стр. 1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 совокупность норм права данной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взаимосвязанных правовых норм, регулирующих однородные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гражданское право, семейное право, трудовое право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трасли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ы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овокупность родственных институтов какой-либо 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избирательное право в конституционном пра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в трудовом праве институт рабочего времени, заработной платы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-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-к, стр.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-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-к, стр.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 право –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-к стр. 1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 право –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-к стр. 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З. § 29, конспект. Термины, вопросы для самопроверк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З. § 29, конспект. Термины, вопросы для самопроверки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сть – регулирует общественные отношения, действует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ит от государства и поддерживается его принудитель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формальное выражение – устанавливается государством в нормативных ак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ит для регулирования общественных отношений, носит систем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сть – регулирует общественные отношения, действует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ит от государства и поддерживается его принудительной сил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формальное выражение – устанавливается государством в нормативных ак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ит для регулирования общественных отношений, носит систем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а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го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ории возникновения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ории возникновения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начение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зглашение правового положения человек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начение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зглашение правового положения человека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авовых нор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вовых норм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нормы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(предположе-ние) – описывает условия выполнения правила. «есл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озиция (распоряже-ние) – описывает само правило поведения. «то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ция (взыскание) предусматривает последствия неисполнения нормы. «инач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нормы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(предположе-ние) – описывает условия выполнения правила. «если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озиция (распоряже-ние) – описывает само правило поведения. «то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ция (взыскание) предусматривает последствия неисполнения нормы. «иначе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ко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(Конституция РФ, конституции республик в составе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конституционные (закон о гербе, о флаге, о референдуме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 – основной закон РФ! (принята 12 декабря 1993 г. путём референду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акон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(Конституция РФ, конституции республик в составе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конституционные (закон о гербе, о флаге, о референдуме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я РФ – основной закон РФ! (принята 12 декабря 1993 г. путём референду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DDED-68BE-46E6-A6DB-2C929506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C75-CFEC-4B26-844C-0B221530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9994-13CE-4997-B8F9-1C03D8ED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BCCD-FEA8-42D0-A5A3-D704ED25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2B80-DBF7-49B5-8300-5AE90FB8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612B-D38E-419B-9E70-679CAD3D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6B73-C252-4A01-9546-70A58E2A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1B45-F086-4585-B4C2-D0A25B94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AB07-7E30-477B-987F-E3B43C90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7C2B-9739-45B0-B589-11817F72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C8DA-434D-41D9-B641-E55FA6E3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2A52-377B-44C3-9942-A8B211C4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CBB1-4D72-4E86-98A3-286DB92F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F31F-E29C-441B-BECE-3550689F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D78E-315C-4EDB-955E-F9D04124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C2F2-2A9C-4061-B9E2-03AEA1A9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70FC-C1DB-4A9B-9491-5C2005DD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C1F09-A306-414E-BB24-DE8A4D10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25599-0638-461F-9973-537039B8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B9931-805E-4662-A874-ECA16BC6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E815E-B115-42E6-AD43-B77CDB01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E7521-4D6F-4F56-99A6-B98D4AA2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ADB7-D61D-43CB-9BD2-5BFD76D4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5EB3B-0A8B-4BC5-8132-B71CB33C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FF9C3-8B7C-4CA2-83E9-2D093C0F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511B3-9A97-44D3-8B44-3A0A05ED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33CB9-5F66-4EAF-99A7-1DA31F6D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08D3B-29AC-466E-8BD7-589DAE46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D7F70-D085-459D-A3AE-0FE73D16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6AE45-78A2-408B-BA8D-05D1FF82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FEDEF-4B23-4DBD-ABF5-FF5BA156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F081A-B70A-4D8C-9581-74283245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74641-0433-4DE0-8602-3D70B931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85AD-CEEC-4E8F-AD46-4D19A07C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358B1-54D6-417C-93E3-A84A193F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A6E36-8285-4128-8330-C49D9580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73ACF-6067-407B-86D9-FE600A70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44202-661F-4E6E-9FCE-87B6912D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BC0C3-926D-4275-B187-8A49BE6B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AD690-1699-4217-B223-717E7C96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08068-A1EF-47DD-9EB2-7BFEF28E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17BDD-F6FF-4712-8E5B-8840EFAE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8BFE6-A21B-4D6D-B029-5B5F84C7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F2D58-2CDD-4AD3-A6C6-C574F1FE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DFEF-CFE1-4F57-891F-7DB7495C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50638-2F98-42F6-91F6-3E2B79C0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E63BC-94A9-4C96-BDD8-ACE9F462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2DA64-A171-4315-BC63-38C70C4F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1CAE5-13F4-4D12-8428-9A1C4C27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B63BE-F5F5-47DB-BF02-E9301E73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AA74A-F728-4835-B7BE-6DB7EA18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ACC94-EFAE-4B7E-958D-FCF80C28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F23B3-AC73-48D4-B4DB-6D69BCEF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4CB64-1F26-41F8-BFDD-A0E34DE9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34D8B-4820-43FA-9CDE-DDD236D1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03D1-6BEF-4CD6-A371-4CE21E6D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9BC2B-3486-4E75-9C43-B8FE4015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9FB6B-673C-418A-B40B-51B86AC2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46A10-68CE-4671-8589-7AA96B85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A6BB5-7576-4B4E-9887-4DD50E99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B5A31-A33B-46C8-9E98-658D49AE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A5DAE-3229-435C-85C8-E6445315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8AF27-2063-4013-ABA9-89DD914B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97714-FDBC-4696-987E-DE7D7ACF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60464-E3C3-4B9F-8355-2CC625C6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E5452-66E2-4394-B274-5C41B0B6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FF70-EDFE-4EBC-9BE3-1D052E38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ED3C4-0D33-4697-8314-E835B008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1AB44-A66B-4E8D-912B-15C49836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DCA45-0300-4EB2-B874-80910226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5399C-55CA-4ADC-A8AE-706C15F6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6CA02-F615-450A-AEA2-EEA975F5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E03DA-F406-4660-AF07-E3FE6B85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162A8-D76C-48C3-ACB9-D4B38CE4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903B4-4956-4BBF-9132-24BB08A8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7DB6C-8EB7-47F5-9662-3C8DA49D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1B4E5-34AD-4160-9745-12C9E7A1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411E-33D3-4131-8416-3CD1990F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29730-D1F1-4023-BCB5-9966532B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19083-B8D3-488B-B6A6-8B0DC08C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FA05C-9762-48A4-B3EE-D2521E6E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A154A-4360-4015-8D22-DD0C0F6D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B2A1D-45C9-4AF9-8D2C-1B369C3D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E9CA-A856-4265-B86C-8C1A0A13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8805-75E0-44F0-B30A-3C4E6745B26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5EDB-1E1E-49A5-8B24-348414A0353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3E9F-9BCF-42D7-AC15-922D9F8F1F3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517D-1822-4968-B3D3-588B0B68D6C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BE53-B95C-4E1F-B65B-D6B6F1B4335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4C50-32E7-4891-A605-37E98DF97A5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FB61-C70F-46C2-A578-7690A0F3D7B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F1A6-51C6-4991-86A1-BE1FE5D6425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E0CF-A9E5-4237-86F4-28398D60678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9251-E8C0-4F92-AD7B-37E66BD26C4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1C1D-251D-442D-8DAF-E704EC9AFBE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DF80-C1ED-4F7B-BBE5-55809A48CA7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8AE0-AE40-45FF-9D1F-12909DC0E21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6CC6-954F-4A05-931A-AB8663E3EEC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620280"/>
            <a:ext cx="7407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72314"/>
                </a:solidFill>
                <a:latin typeface="Corbel"/>
              </a:rPr>
              <a:t>Тема:</a:t>
            </a: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 Роль права в жизни человека, общества, государства § 29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26" name="Прямоугольник 2"/>
          <p:cNvGrpSpPr/>
          <p:nvPr/>
        </p:nvGrpSpPr>
        <p:grpSpPr>
          <a:xfrm>
            <a:off x="1719360" y="3449520"/>
            <a:ext cx="6912000" cy="3011760"/>
            <a:chOff x="1719360" y="3449520"/>
            <a:chExt cx="6912000" cy="3011760"/>
          </a:xfrm>
        </p:grpSpPr>
        <p:pic>
          <p:nvPicPr>
            <p:cNvPr id="327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719360" y="3449520"/>
              <a:ext cx="6912000" cy="30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763640" y="3500280"/>
              <a:ext cx="6480360" cy="24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orbel"/>
                </a:rPr>
                <a:t>Для меня не важно, на чьей стороне сила: важно то, на чьей стороне право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orbel"/>
                </a:rPr>
                <a:t>В.Гюг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1042920" y="115920"/>
            <a:ext cx="5400720" cy="1441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Система права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?  Уч-к стр. 18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2"/>
          <p:cNvSpPr/>
          <p:nvPr/>
        </p:nvSpPr>
        <p:spPr>
          <a:xfrm>
            <a:off x="4067280" y="115920"/>
            <a:ext cx="489744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Вся совокупность норм права данной стр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1042920" y="1844640"/>
            <a:ext cx="201636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Отрасли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4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Совокупность взаимосвязанных правовых норм, регулирующих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однородные общественные отнош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5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гражданское право, семейное право, трудовое право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6"/>
          <p:cNvSpPr/>
          <p:nvPr/>
        </p:nvSpPr>
        <p:spPr>
          <a:xfrm>
            <a:off x="3635280" y="1844640"/>
            <a:ext cx="223200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Подотрасли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7"/>
          <p:cNvSpPr/>
          <p:nvPr/>
        </p:nvSpPr>
        <p:spPr>
          <a:xfrm>
            <a:off x="6300720" y="1844640"/>
            <a:ext cx="266400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Институты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8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Это совокупность родственных институтов какой-либо отрасли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9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избирательное право в конституционном пра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0"/>
          <p:cNvSpPr/>
          <p:nvPr/>
        </p:nvSpPr>
        <p:spPr>
          <a:xfrm>
            <a:off x="2484360" y="3573360"/>
            <a:ext cx="4535640" cy="2665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1"/>
          <p:cNvSpPr/>
          <p:nvPr/>
        </p:nvSpPr>
        <p:spPr>
          <a:xfrm>
            <a:off x="2484360" y="3573360"/>
            <a:ext cx="4535640" cy="30956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в трудовом праве институт рабочего времени, заработной пла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ижнього колонтитула 1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2987640" y="549360"/>
            <a:ext cx="3529080" cy="9144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Система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Прямая со стрелкой 3" descr=""/>
          <p:cNvPicPr/>
          <p:nvPr/>
        </p:nvPicPr>
        <p:blipFill>
          <a:blip r:embed="rId1"/>
          <a:stretch/>
        </p:blipFill>
        <p:spPr>
          <a:xfrm>
            <a:off x="2438280" y="1420920"/>
            <a:ext cx="2328840" cy="150480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ая со стрелкой 5" descr=""/>
          <p:cNvPicPr/>
          <p:nvPr/>
        </p:nvPicPr>
        <p:blipFill>
          <a:blip r:embed="rId2"/>
          <a:stretch/>
        </p:blipFill>
        <p:spPr>
          <a:xfrm>
            <a:off x="4700520" y="1420920"/>
            <a:ext cx="2724120" cy="1504800"/>
          </a:xfrm>
          <a:prstGeom prst="rect">
            <a:avLst/>
          </a:prstGeom>
          <a:ln w="0">
            <a:noFill/>
          </a:ln>
        </p:spPr>
      </p:pic>
      <p:sp>
        <p:nvSpPr>
          <p:cNvPr id="389" name="Скругленный прямоугольник 6"/>
          <p:cNvSpPr/>
          <p:nvPr/>
        </p:nvSpPr>
        <p:spPr>
          <a:xfrm>
            <a:off x="1547640" y="2708280"/>
            <a:ext cx="2160720" cy="18730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ЧАСТ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Скругленный прямоугольник 7"/>
          <p:cNvSpPr/>
          <p:nvPr/>
        </p:nvSpPr>
        <p:spPr>
          <a:xfrm>
            <a:off x="6156360" y="2708280"/>
            <a:ext cx="2160720" cy="194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УБЛИЧ-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Овал 8"/>
          <p:cNvSpPr/>
          <p:nvPr/>
        </p:nvSpPr>
        <p:spPr>
          <a:xfrm>
            <a:off x="6732720" y="115920"/>
            <a:ext cx="1942920" cy="1584360"/>
          </a:xfrm>
          <a:prstGeom prst="ellipse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Уч-к, стр.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кругленный прямоугольник 14"/>
          <p:cNvSpPr/>
          <p:nvPr/>
        </p:nvSpPr>
        <p:spPr>
          <a:xfrm>
            <a:off x="2411280" y="4797360"/>
            <a:ext cx="2376720" cy="1871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ОЗИТИ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кругленный прямоугольник 9"/>
          <p:cNvSpPr/>
          <p:nvPr/>
        </p:nvSpPr>
        <p:spPr>
          <a:xfrm>
            <a:off x="5219640" y="4797360"/>
            <a:ext cx="2376720" cy="1871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ЕСТЕ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Скругленный прямоугольник 1"/>
          <p:cNvSpPr/>
          <p:nvPr/>
        </p:nvSpPr>
        <p:spPr>
          <a:xfrm>
            <a:off x="1692360" y="260280"/>
            <a:ext cx="6696000" cy="223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Естественное право –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Уч-к стр. 1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Скругленный прямоугольник 2"/>
          <p:cNvSpPr/>
          <p:nvPr/>
        </p:nvSpPr>
        <p:spPr>
          <a:xfrm>
            <a:off x="1763640" y="3068640"/>
            <a:ext cx="6696000" cy="223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Прямоугольник 1"/>
          <p:cNvGrpSpPr/>
          <p:nvPr/>
        </p:nvGrpSpPr>
        <p:grpSpPr>
          <a:xfrm>
            <a:off x="1700280" y="2030400"/>
            <a:ext cx="6748560" cy="2273400"/>
            <a:chOff x="1700280" y="2030400"/>
            <a:chExt cx="6748560" cy="2273400"/>
          </a:xfrm>
        </p:grpSpPr>
        <p:pic>
          <p:nvPicPr>
            <p:cNvPr id="399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700280" y="2030400"/>
              <a:ext cx="674856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763640" y="2060640"/>
              <a:ext cx="662472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Д.З. § 29, конспект. Термины, вопросы для самопроверки,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         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зада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1"/>
          <p:cNvSpPr/>
          <p:nvPr/>
        </p:nvSpPr>
        <p:spPr>
          <a:xfrm>
            <a:off x="1187280" y="260280"/>
            <a:ext cx="7705800" cy="32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2"/>
          <p:cNvSpPr/>
          <p:nvPr/>
        </p:nvSpPr>
        <p:spPr>
          <a:xfrm>
            <a:off x="1908000" y="4149720"/>
            <a:ext cx="6120000" cy="19432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Признаки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187280" y="917640"/>
            <a:ext cx="7705800" cy="25826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Скругленный прямоугольник 1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оциальность – регулирует общественные отношения, действует в общ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2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кругленный прямоугольник 3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сходит от государства и поддерживается его принудительной си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кругленный прямоугольник 4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меет формальное выражение – устанавливается государством в нормативных а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кругленный прямоугольник 5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лужит для регулирования общественных отношений, носит системны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Скругленный прямоугольник 1"/>
          <p:cNvSpPr/>
          <p:nvPr/>
        </p:nvSpPr>
        <p:spPr>
          <a:xfrm>
            <a:off x="1979640" y="62064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Функции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кругленный прямоугольник 2"/>
          <p:cNvSpPr/>
          <p:nvPr/>
        </p:nvSpPr>
        <p:spPr>
          <a:xfrm>
            <a:off x="1979640" y="907920"/>
            <a:ext cx="6264360" cy="36734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Воспита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3"/>
          <p:cNvSpPr/>
          <p:nvPr/>
        </p:nvSpPr>
        <p:spPr>
          <a:xfrm>
            <a:off x="1979640" y="119700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Социального контр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4"/>
          <p:cNvSpPr/>
          <p:nvPr/>
        </p:nvSpPr>
        <p:spPr>
          <a:xfrm>
            <a:off x="1979640" y="1484280"/>
            <a:ext cx="6264360" cy="36734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Регулят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5"/>
          <p:cNvSpPr/>
          <p:nvPr/>
        </p:nvSpPr>
        <p:spPr>
          <a:xfrm>
            <a:off x="1979640" y="184464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Охрани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1835280" y="44280"/>
            <a:ext cx="6121440" cy="720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Теории возникновения прав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042920" y="907920"/>
          <a:ext cx="8101080" cy="7351920"/>
        </p:xfrm>
        <a:graphic>
          <a:graphicData uri="http://schemas.openxmlformats.org/drawingml/2006/table">
            <a:tbl>
              <a:tblPr/>
              <a:tblGrid>
                <a:gridCol w="2422440"/>
                <a:gridCol w="567864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еолог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коны существуют вечно, ибо являются божественным дар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стественного пра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еловек от рождения и природы обладает неотъемлемыми естественными правами, которые нельзя отменит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сихолог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есть результат человеческих переживаний. Законы государства зависят от психологии люде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ормативист-ская те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исходит от государства,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торое диктует людям модель поведен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зитивист-ская те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порождено противоречиями в жизни, военными конфликтами, в результате которых победу одерживает сильнейши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Скругленный прямоугольник 1"/>
          <p:cNvSpPr/>
          <p:nvPr/>
        </p:nvSpPr>
        <p:spPr>
          <a:xfrm>
            <a:off x="2050920" y="333360"/>
            <a:ext cx="5185080" cy="9144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рактическое значение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Прямая со стрелкой 4" descr=""/>
          <p:cNvPicPr/>
          <p:nvPr/>
        </p:nvPicPr>
        <p:blipFill>
          <a:blip r:embed="rId1"/>
          <a:stretch/>
        </p:blipFill>
        <p:spPr>
          <a:xfrm>
            <a:off x="3017880" y="1182600"/>
            <a:ext cx="1712880" cy="117000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ая со стрелкой 6" descr=""/>
          <p:cNvPicPr/>
          <p:nvPr/>
        </p:nvPicPr>
        <p:blipFill>
          <a:blip r:embed="rId2"/>
          <a:stretch/>
        </p:blipFill>
        <p:spPr>
          <a:xfrm>
            <a:off x="4559400" y="1189080"/>
            <a:ext cx="1573200" cy="1163520"/>
          </a:xfrm>
          <a:prstGeom prst="rect">
            <a:avLst/>
          </a:prstGeom>
          <a:ln w="0">
            <a:noFill/>
          </a:ln>
        </p:spPr>
      </p:pic>
      <p:sp>
        <p:nvSpPr>
          <p:cNvPr id="352" name="Параллелограмм 7"/>
          <p:cNvSpPr/>
          <p:nvPr/>
        </p:nvSpPr>
        <p:spPr>
          <a:xfrm>
            <a:off x="1116000" y="2492280"/>
            <a:ext cx="3384720" cy="3529080"/>
          </a:xfrm>
          <a:prstGeom prst="parallelogram">
            <a:avLst>
              <a:gd name="adj" fmla="val 25000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Защита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араллелограмм 8"/>
          <p:cNvSpPr/>
          <p:nvPr/>
        </p:nvSpPr>
        <p:spPr>
          <a:xfrm>
            <a:off x="4932360" y="2421000"/>
            <a:ext cx="3600360" cy="3744720"/>
          </a:xfrm>
          <a:prstGeom prst="parallelogram">
            <a:avLst>
              <a:gd name="adj" fmla="val 25000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Провозглашение правового положения человека в обществ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1"/>
          <p:cNvSpPr/>
          <p:nvPr/>
        </p:nvSpPr>
        <p:spPr>
          <a:xfrm>
            <a:off x="1547640" y="115920"/>
            <a:ext cx="6769440" cy="2952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Норма права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Скругленный прямоугольник 2"/>
          <p:cNvSpPr/>
          <p:nvPr/>
        </p:nvSpPr>
        <p:spPr>
          <a:xfrm>
            <a:off x="1547640" y="3500280"/>
            <a:ext cx="6769440" cy="29530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Виды правовых нор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кругленный прямоугольник 3"/>
          <p:cNvSpPr/>
          <p:nvPr/>
        </p:nvSpPr>
        <p:spPr>
          <a:xfrm>
            <a:off x="1547640" y="549360"/>
            <a:ext cx="6769440" cy="267156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4"/>
          <p:cNvSpPr/>
          <p:nvPr/>
        </p:nvSpPr>
        <p:spPr>
          <a:xfrm>
            <a:off x="1547640" y="4221000"/>
            <a:ext cx="6769440" cy="2384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Скругленный прямоугольник 1"/>
          <p:cNvSpPr/>
          <p:nvPr/>
        </p:nvSpPr>
        <p:spPr>
          <a:xfrm>
            <a:off x="1476360" y="189000"/>
            <a:ext cx="7272360" cy="1655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остав нормы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2"/>
          <p:cNvSpPr/>
          <p:nvPr/>
        </p:nvSpPr>
        <p:spPr>
          <a:xfrm>
            <a:off x="1187280" y="2421000"/>
            <a:ext cx="223236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Гипотез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предположе-ние) – описывает условия выполнения правила. «есл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3"/>
          <p:cNvSpPr/>
          <p:nvPr/>
        </p:nvSpPr>
        <p:spPr>
          <a:xfrm>
            <a:off x="3924360" y="2421000"/>
            <a:ext cx="237636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Диспозиция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распоряже-ние) – описывает само правило поведения. «т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4"/>
          <p:cNvSpPr/>
          <p:nvPr/>
        </p:nvSpPr>
        <p:spPr>
          <a:xfrm>
            <a:off x="6732720" y="2421000"/>
            <a:ext cx="223200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Санкция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взыскание) предусматривает последствия неисполнения нормы. «иначе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1"/>
          <p:cNvSpPr/>
          <p:nvPr/>
        </p:nvSpPr>
        <p:spPr>
          <a:xfrm>
            <a:off x="1547640" y="71280"/>
            <a:ext cx="7201080" cy="2421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Закон –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"/>
          <p:cNvSpPr/>
          <p:nvPr/>
        </p:nvSpPr>
        <p:spPr>
          <a:xfrm>
            <a:off x="2268360" y="2637000"/>
            <a:ext cx="5543640" cy="2016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иды закон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4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Основные (Конституция РФ, конституции республик в составе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5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едеральные конституционные (закон о гербе, о флаге, о референдуме и т.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6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7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8"/>
          <p:cNvSpPr/>
          <p:nvPr/>
        </p:nvSpPr>
        <p:spPr>
          <a:xfrm>
            <a:off x="2268360" y="3429000"/>
            <a:ext cx="5543640" cy="2449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Конституция РФ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– основной закон РФ! (принята 12 декабря 1993 г. путём референду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9"/>
          <p:cNvSpPr/>
          <p:nvPr/>
        </p:nvSpPr>
        <p:spPr>
          <a:xfrm>
            <a:off x="1547640" y="549360"/>
            <a:ext cx="7201080" cy="20955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6:19:30Z</dcterms:created>
  <dc:creator>Пользователь</dc:creator>
  <dc:description/>
  <dc:language>en-US</dc:language>
  <cp:lastModifiedBy>LEGION</cp:lastModifiedBy>
  <dcterms:modified xsi:type="dcterms:W3CDTF">2016-01-04T08:10:58Z</dcterms:modified>
  <cp:revision>24</cp:revision>
  <dc:subject/>
  <dc:title>Тема: Роль права в жизни человека, общества, государства § 29</dc:title>
</cp:coreProperties>
</file>